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BD8-2209-413A-98FA-A298180A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20E-E852-45AF-9869-669391A2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5EA-469F-4E07-B9B3-2DF21269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977-D0EA-4CB4-AD17-E47E3401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D135-AC19-42E2-AFA8-C184E1E8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3307-71B9-4C51-B2BC-A03319CB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1876-773B-47F3-A0D6-BD4B3905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D1CF-363F-474B-A2E9-4850EA89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DA67-F13D-4590-A97B-AFBA1981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0535-D6C8-49FC-B6B6-264F8334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09A5-4F54-4827-993C-4901FB6C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0DD-84B8-4BF7-9038-B4A96620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A951-B13D-4FFD-B00A-8C007DEB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5658-FEF3-420C-974D-B45CCD9B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8DD0-798B-46DD-9E1D-DFC1B0A4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AAB8-3C65-4B62-A2E6-02F8D91D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867F-F1BD-4379-B98B-41559E07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E11-3125-4EB8-A4FD-2CB25FA4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E03-F552-4CBB-BDB2-A765C6FF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3B2-B4F2-4DD5-A7EF-C39AC09E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471-C5F7-49CF-B77B-7E461C9E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9B7-EDB1-44B1-9A2B-B47AFCD2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451-A0CB-4049-8EF8-C1603BC1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554-DE0A-4550-A34C-CF383FBD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E9A4-2919-47F5-8206-B213907D989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138B-1D13-442A-BE21-21F91940533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oyecto TIC en un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entro Educativ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50800" y="2841480"/>
            <a:ext cx="3540240" cy="31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F4B2-81D1-4F0C-8F55-E6868C1CFF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36600" y="173160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umentar el interés por aprend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vorecer el aprendizaje cooperativo y soci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stimular creatividad e imaginació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409-F0C7-4544-95BA-50167B46E3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ocument"/>
          <p:cNvSpPr/>
          <p:nvPr/>
        </p:nvSpPr>
        <p:spPr>
          <a:xfrm>
            <a:off x="1190520" y="1666800"/>
            <a:ext cx="4057920" cy="50198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36600" y="1731960"/>
            <a:ext cx="401184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nfatizar la vertiente comunicativa de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Potenciar la integración de alumnado con necesidades educativas especial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miliarizarse y concienciarse del nuevo modelo de formación: autónomo y a distanci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5EF-B7F6-4B6A-A513-1A22AC9BAF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Unidades Didácticas que incorporen el uso de nuevas tecnologí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daptar o diseñar multimedias que favorezcan el aprendizaje constructi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xperimentar modelos de enseñanza alternativos a la instrucción direc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programas de apoyo al alumnado con necesidades educ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83F-F5BA-481A-9462-5436D125E6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esarrollar modelos de evaluación sobre la utilización de los medios tecnológic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Participar en iniciativas de formación presencial y a distancia sobre el uso de las NNT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Reconocer el nuevo rol del profesor: diseñador y facilitador de entorn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spcAft>
                <a:spcPts val="15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1AA-6772-467D-997D-9E716AEE84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06560" y="2200320"/>
            <a:ext cx="1674720" cy="1496880"/>
            <a:chOff x="1006560" y="2200320"/>
            <a:chExt cx="1674720" cy="14968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015920" y="220032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404720" y="2486160"/>
              <a:ext cx="698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06560" y="324648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Uso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54560" y="3246480"/>
            <a:ext cx="2266920" cy="1695240"/>
            <a:chOff x="3454560" y="3246480"/>
            <a:chExt cx="2266920" cy="1695240"/>
          </a:xfrm>
        </p:grpSpPr>
        <p:sp>
          <p:nvSpPr>
            <p:cNvPr id="136" name="computr3"/>
            <p:cNvSpPr/>
            <p:nvPr/>
          </p:nvSpPr>
          <p:spPr>
            <a:xfrm>
              <a:off x="3454560" y="3246480"/>
              <a:ext cx="2266920" cy="1695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3640" y="3362400"/>
              <a:ext cx="101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Verdana"/>
                </a:rPr>
                <a:t>Proyec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9680" y="3673440"/>
              <a:ext cx="66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T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47880" y="1600200"/>
            <a:ext cx="1674720" cy="1496880"/>
            <a:chOff x="2747880" y="1600200"/>
            <a:chExt cx="1674720" cy="14968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757240" y="16002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62960" y="1886040"/>
              <a:ext cx="666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V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7880" y="26463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Valoració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84720" y="1619280"/>
            <a:ext cx="1674720" cy="1496880"/>
            <a:chOff x="5184720" y="1619280"/>
            <a:chExt cx="1674720" cy="149688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5194080" y="161928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625360" y="1905120"/>
              <a:ext cx="616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4720" y="266544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Alfabet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Digi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40360" y="2496960"/>
            <a:ext cx="1674720" cy="1496880"/>
            <a:chOff x="6840360" y="2496960"/>
            <a:chExt cx="1674720" cy="149688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6849720" y="2496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287480" y="2782800"/>
              <a:ext cx="60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0360" y="3543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ten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vers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40360" y="4370400"/>
            <a:ext cx="1674720" cy="1496880"/>
            <a:chOff x="6840360" y="4370400"/>
            <a:chExt cx="1674720" cy="1496880"/>
          </a:xfrm>
        </p:grpSpPr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6849720" y="43704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312680" y="4656240"/>
              <a:ext cx="5554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40360" y="54165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Escol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970520" y="5119560"/>
            <a:ext cx="1674720" cy="1496880"/>
            <a:chOff x="4970520" y="5119560"/>
            <a:chExt cx="1674720" cy="1496880"/>
          </a:xfrm>
        </p:grpSpPr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4979880" y="5119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414400" y="5405400"/>
              <a:ext cx="612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G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70520" y="6165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Gest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dmin. y Tu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89120" y="5281560"/>
            <a:ext cx="1674720" cy="1496880"/>
            <a:chOff x="2589120" y="5281560"/>
            <a:chExt cx="1674720" cy="1496880"/>
          </a:xfrm>
        </p:grpSpPr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2598480" y="5281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069720" y="5567400"/>
              <a:ext cx="540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F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89120" y="6327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Form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Profesor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38080" y="4071960"/>
            <a:ext cx="1674720" cy="1496880"/>
            <a:chOff x="838080" y="4071960"/>
            <a:chExt cx="1674720" cy="1496880"/>
          </a:xfrm>
        </p:grpSpPr>
        <p:pic>
          <p:nvPicPr>
            <p:cNvPr id="164" name="" descr=""/>
            <p:cNvPicPr/>
            <p:nvPr/>
          </p:nvPicPr>
          <p:blipFill>
            <a:blip r:embed="rId8"/>
            <a:stretch/>
          </p:blipFill>
          <p:spPr>
            <a:xfrm>
              <a:off x="847440" y="4071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240920" y="4357800"/>
              <a:ext cx="69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5118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señ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409-BFE1-4179-A382-FAD002246A1A}" type="slidenum">
              <a:t>1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1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Tecl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 Windows: Programas y Ventan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Word: edición básica de un documento: título, imagen y tex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Internet: websites conocid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Mi Primera Encar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vío y Recepción de Email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804-7DED-4901-9C6E-16538AF380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2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Teclad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ntorno Windows: Archivos y Dis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Word: edición de un documento: formato de imagen y text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Navegación por Internet:herramientas escolares y buscad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Herramientas escolares de Encart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mails con adju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scaneado de imágenes prop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7CE-1B4D-4FFB-A774-85928AC095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tras 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Escola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Administrativa y Tutor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Valoración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Diseño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846-7E00-42D4-8E0F-08A2BAD8CA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blioteca Esco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-&gt; Mediate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catálogo: Abies 2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Consulta web del catálogo: Bonsai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Formación de usuari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oyecto interdisciplinar por hit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7f7f7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40" y="5210280"/>
            <a:ext cx="2033640" cy="16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1D1-7072-44A9-B71A-D89DACD573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estión Administrativa y Tutor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lantillas documentación oficial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scola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conómi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Noticias web para famili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tutorial: listas y evaluacione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26B-F726-4DC0-87B0-52F63650FE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Índi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ntex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ínea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z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a Web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rmación del Profesora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yec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erspectivas del futu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4B6-9DA7-4011-8D4B-E2080DDA6B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loración de Mater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quip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Criterios de valoración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1) Profesor Marc Per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técnicos: interacción, fiabilidad, navegación, etc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estéticos: entorno, cal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de utilidad didáctica: estrategias, evaluación, continu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pedagógicos: refuerzos, motivación, buscado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laboración de una guía de explotación didáctic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Presentación del mater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Revisión del Plan Anual de Uso de Material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7CD-D9B3-4737-9313-A0046092A3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eño de Material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2548080"/>
            <a:ext cx="7313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ecesidad del diseño: escasez de iniciativas editorial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s de publicación: Aula - Red local – Web del centro – Aula virtual - Otr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Herramientas: Word – FrontPage - PowerPoint – Autor NEA - Hot Potatoes – JClic – Flash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43800" y="530280"/>
            <a:ext cx="2039760" cy="20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9CA-7F25-4CD3-80BB-4B6CBEA756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orarios y espac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gram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 Coordinador T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5E9A-1910-40FB-9471-E14B66BFF5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Horarios y espac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90840" y="1827360"/>
            <a:ext cx="70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quincenal. Cada grupo asiste con profesor especialista (Inglés-Música-Llíngua-Plástica) (20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 Alfabetización Digital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un profesor responsable de Ciclo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BE Biblioteca Escolar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tención a la Diversidad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(apoyos): resto horario lectivo disponibl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FP Formación profesorado.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Horario de dedicación exclusiva (2 horas semanales: individual y grupo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6440" y="4495680"/>
            <a:ext cx="1594080" cy="21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219-1D4A-4AE4-9BAB-1F353E2E31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Organigram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410080" y="2540160"/>
            <a:ext cx="3601440" cy="1402560"/>
            <a:chOff x="5410080" y="2540160"/>
            <a:chExt cx="3601440" cy="1402560"/>
          </a:xfrm>
        </p:grpSpPr>
        <p:sp>
          <p:nvSpPr>
            <p:cNvPr id="194" name=""/>
            <p:cNvSpPr/>
            <p:nvPr/>
          </p:nvSpPr>
          <p:spPr>
            <a:xfrm>
              <a:off x="5410080" y="2540160"/>
              <a:ext cx="1308240" cy="1226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52160" y="3422520"/>
              <a:ext cx="225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V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Profesores de Apoy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, Logopedia y 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010200" y="1724040"/>
            <a:ext cx="2193840" cy="1225440"/>
            <a:chOff x="6010200" y="1724040"/>
            <a:chExt cx="2193840" cy="1225440"/>
          </a:xfrm>
        </p:grpSpPr>
        <p:sp>
          <p:nvSpPr>
            <p:cNvPr id="197" name=""/>
            <p:cNvSpPr/>
            <p:nvPr/>
          </p:nvSpPr>
          <p:spPr>
            <a:xfrm>
              <a:off x="6461280" y="2016000"/>
              <a:ext cx="1168200" cy="9334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0200" y="1724040"/>
              <a:ext cx="21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GA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utores y Secretar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16640" y="2062080"/>
            <a:ext cx="1717200" cy="1704960"/>
            <a:chOff x="1016640" y="2062080"/>
            <a:chExt cx="1717200" cy="1704960"/>
          </a:xfrm>
        </p:grpSpPr>
        <p:sp>
          <p:nvSpPr>
            <p:cNvPr id="200" name=""/>
            <p:cNvSpPr/>
            <p:nvPr/>
          </p:nvSpPr>
          <p:spPr>
            <a:xfrm>
              <a:off x="1380960" y="2579760"/>
              <a:ext cx="1352880" cy="11872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6640" y="20620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E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sponsab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de la 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83000" y="3173400"/>
            <a:ext cx="2939760" cy="1347840"/>
            <a:chOff x="783000" y="3173400"/>
            <a:chExt cx="2939760" cy="1347840"/>
          </a:xfrm>
        </p:grpSpPr>
        <p:sp>
          <p:nvSpPr>
            <p:cNvPr id="203" name=""/>
            <p:cNvSpPr/>
            <p:nvPr/>
          </p:nvSpPr>
          <p:spPr>
            <a:xfrm>
              <a:off x="2185920" y="3173400"/>
              <a:ext cx="1536840" cy="1347840"/>
            </a:xfrm>
            <a:prstGeom prst="pie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3000" y="3848040"/>
              <a:ext cx="149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Grupos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57040" y="4297320"/>
            <a:ext cx="2229120" cy="2050200"/>
            <a:chOff x="1157040" y="4297320"/>
            <a:chExt cx="2229120" cy="2050200"/>
          </a:xfrm>
        </p:grpSpPr>
        <p:sp>
          <p:nvSpPr>
            <p:cNvPr id="206" name=""/>
            <p:cNvSpPr/>
            <p:nvPr/>
          </p:nvSpPr>
          <p:spPr>
            <a:xfrm>
              <a:off x="1228680" y="4297320"/>
              <a:ext cx="1893960" cy="169236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7040" y="6040440"/>
              <a:ext cx="22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FP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odos los 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012480" y="2070000"/>
            <a:ext cx="2462040" cy="1758960"/>
            <a:chOff x="3012480" y="2070000"/>
            <a:chExt cx="2462040" cy="1758960"/>
          </a:xfrm>
        </p:grpSpPr>
        <p:sp>
          <p:nvSpPr>
            <p:cNvPr id="209" name=""/>
            <p:cNvSpPr/>
            <p:nvPr/>
          </p:nvSpPr>
          <p:spPr>
            <a:xfrm>
              <a:off x="3436920" y="2481120"/>
              <a:ext cx="1373040" cy="1347840"/>
            </a:xfrm>
            <a:prstGeom prst="pi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12480" y="2070000"/>
              <a:ext cx="246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V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Coordinador Ciclo y u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 por especial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91120" y="3259080"/>
            <a:ext cx="4073760" cy="1347840"/>
            <a:chOff x="4191120" y="3259080"/>
            <a:chExt cx="4073760" cy="1347840"/>
          </a:xfrm>
        </p:grpSpPr>
        <p:sp>
          <p:nvSpPr>
            <p:cNvPr id="212" name=""/>
            <p:cNvSpPr/>
            <p:nvPr/>
          </p:nvSpPr>
          <p:spPr>
            <a:xfrm>
              <a:off x="4191120" y="3259080"/>
              <a:ext cx="1536480" cy="134784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57560" y="3968640"/>
              <a:ext cx="240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U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utores, Especialista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y Apoyos a Grup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05400" y="4297320"/>
            <a:ext cx="2553120" cy="1999440"/>
            <a:chOff x="4505400" y="4297320"/>
            <a:chExt cx="2553120" cy="1999440"/>
          </a:xfrm>
        </p:grpSpPr>
        <p:sp>
          <p:nvSpPr>
            <p:cNvPr id="215" name=""/>
            <p:cNvSpPr/>
            <p:nvPr/>
          </p:nvSpPr>
          <p:spPr>
            <a:xfrm>
              <a:off x="4505400" y="4297320"/>
              <a:ext cx="1666800" cy="158436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2640" y="5989680"/>
              <a:ext cx="23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Un profesor por Cicl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015-7D47-45B2-9B10-BB18644CB2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l Coordinador TI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Sus funciones más destacadas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Apoyar al profesorado en la integración de las TICs en la docencia diaria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Organizar y gestionar los recursos asegurando su correcto funcionamient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laborar en la implantación de los servicios de la Intrane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Dinamizar los proyectos del centro relacionados con NNT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Gestionar el presupuesto específic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ordinar la comunicación del centro con las instituciones en temas TIC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018040" y="2141640"/>
            <a:ext cx="3665520" cy="28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E04-1959-4A64-BF1D-F11AB8E1DE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a Web del Cen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tu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FDC-2055-430B-A622-8C2A64115E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web del centro I: Situ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Recurso importante en el proyecto TIC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etende los mismos objetivos que el plan TIC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Debe superar el enfoque inicial de “escaparate”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rtal de recursos de continua referencia del alumnado: de lo conocido a lo desconoci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8E25-F723-446B-AA14-56DC0D48BF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a web del centro II: Princip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Usabil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entorno intuitivo, amigable y adaptado a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ctiv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participación de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Enfoque educativo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omentar un uso más racional de los medios tecnológi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Infor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comunicar los detalles del proyecto educativo al resto de la comunidad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Portal de recursos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integrar múltiples recursos para convertirlo en sitio de referencia permanent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ni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acilitador de experiencias didácticas de innov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20A-38E9-4C10-983D-6F4F189087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mación del profesorado: Mod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00120" y="1827360"/>
            <a:ext cx="628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actor clave de la integración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minario de formación en centr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Bajo la dirección del coordinador y con el apoyo del Centr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esión quincenal de 2 hor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lterna formación impartida por el coordinador con trabajo individual, de pequeño y de gran grup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presencial: cursos del Centro de Profesor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a distancia: Consejería y CNIC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680" y="3591000"/>
            <a:ext cx="2209680" cy="30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5F8-81A8-4C21-96D5-F0A1B24ECA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tuación actual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incipio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FB1-90FC-4871-8D1A-285F35B5A0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valuación del proye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alumn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feso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ces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7D8-131C-4DF0-A827-C4D9A92402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alumn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cilita la creatividad y la imagin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vorece la comunicación del alumnado con su entorn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sibilita la integración social de alumnos con ne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tencia el uso de nuevos entornos de aprendiza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7BA-FB3B-42D5-A6CB-0C9E100854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valuación del alumno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integración TIC supone construcción del conocimien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mejoran las habilidades de pensamiento crític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adquieren valores relacionados con el uso de las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estimula el interés por aprender en alumnos con ne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fomenta el trabajo cooperativ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97F-42D9-4093-8F9B-C7F4A1C2DBB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39880" y="1827000"/>
            <a:ext cx="694368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incorporado TICs como instrumentos cognitivos en el desarrollo de Unidades Didáctic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aprovechamiento de las TICs es el má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 participado activamente en la valoración, adaptación y diseño de recurs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experimentado modelos de enseñanza alternativos a la inst.direc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D01-01F1-4BC9-BD04-80B0C4480D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39880" y="1827360"/>
            <a:ext cx="69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ha puesto en práctica algún modelo de eval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la formación recibida es de utilidad en la docencia diari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existe sensibilidad hacia el cambio de rol del profesor que supone la integración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3ED7-7579-4055-B3DB-BAD4370491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19080" y="1827360"/>
            <a:ext cx="686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os recursos son adecuados y se utilizan de forma eficaz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organización de recursos es idóne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xiste compromiso de todos los participantes: alumnado, profesorado, familias, et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observa especial incidencia en la práctica docente y familia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trabajo del coordinador de TICs e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200160" y="5181480"/>
            <a:ext cx="1307880" cy="1227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89160" y="5573880"/>
            <a:ext cx="1054080" cy="988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86C-4933-480F-B1F4-05DB512394F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4280" y="2189160"/>
            <a:ext cx="4559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Aprendizaje sobre/con la tecnologí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Programas basados en la filosofía del refuerz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l éxito de una aplicación también depende del contexto de us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1720" y="3922560"/>
            <a:ext cx="2818080" cy="272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56120" y="1482840"/>
            <a:ext cx="5778360" cy="3375000"/>
          </a:xfrm>
          <a:prstGeom prst="cloudCallout">
            <a:avLst>
              <a:gd name="adj1" fmla="val -40740"/>
              <a:gd name="adj2" fmla="val 69990"/>
            </a:avLst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863-BA35-41C5-8CAF-7B59CE0B41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2027160"/>
            <a:ext cx="48880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tecnología no garantiza motiv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o del ordenador como un lib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gramas para reforzar conocimientos o bien para mejorar la productiv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flicto de competencias entre el ser humano y la máquin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217600">
            <a:off x="6362640" y="4673160"/>
            <a:ext cx="3149640" cy="304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960" y="1444680"/>
            <a:ext cx="6458040" cy="4079880"/>
          </a:xfrm>
          <a:prstGeom prst="cloudCallout">
            <a:avLst>
              <a:gd name="adj1" fmla="val 45106"/>
              <a:gd name="adj2" fmla="val 39532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9D0-B933-4172-8310-D91D5D3D04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0080" y="188424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mentar creación frente a reproduc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vorecer el aprendizaje interactivo, constructivo, autorregulado y tecnológ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orar el medio tecnológico por su valor como instrumento cognitiv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fatizar la construcción del conoci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imular el desarrollo de habilidades del pensa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5480" y="1590840"/>
            <a:ext cx="201420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396-CFC4-4641-9090-F38B1079E2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960" y="1827360"/>
            <a:ext cx="551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nsibilizarse con la educación en valores relacionada con el uso de las tecnologí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Enfatizar la vertiente cooperativa del aprendizaje: alumnos, profes, pad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Desarrollar habilidades instrumentale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lternar modelos de enseñanza y aprendizaje variado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Utilizar un recurso tecnológico sólo si merece la pen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2200" y="3514680"/>
            <a:ext cx="201456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FB6-03EA-417F-90E3-9B073F618F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Alumnad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Profesorado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6D9-8C87-4683-BB96-8B4116CF18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6600" y="170316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Construir aprendizaje del currículo usando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Mejorar habilidades del pensamiento adquiriendo estrategias inteligent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Desarrollar el sentido crític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dquirir una adecuada formación en valor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E59-CF0C-4082-84FB-2084D176CF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41:53Z</dcterms:created>
  <dc:creator> fpp</dc:creator>
  <dc:description/>
  <dc:language>en-US</dc:language>
  <cp:lastModifiedBy>fpp</cp:lastModifiedBy>
  <dcterms:modified xsi:type="dcterms:W3CDTF">2007-05-05T22:15:31Z</dcterms:modified>
  <cp:revision>95</cp:revision>
  <dc:subject/>
  <dc:title>Proyecto de TICs en un  Centro de Educación Prima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Proyecto de TICs en un</vt:lpwstr>
  </property>
  <property fmtid="{D5CDD505-2E9C-101B-9397-08002B2CF9AE}" pid="3" name="LastUsedName">
    <vt:lpwstr>Proyecto de TICs en un</vt:lpwstr>
  </property>
</Properties>
</file>