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FF2-63EC-4007-9B26-6AFA8F94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528-3688-49A2-83EC-B4907127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2C9-6810-4F1F-81A4-67E10F0D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9DF-4543-477C-94E9-8B94F671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9B42-7C92-4EF0-B27E-F314BD2C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EDC0-72B0-4202-9737-0ACD1B63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927C-54FF-48C7-9FC6-FD435063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77DF-939D-49C5-8985-FDCA251D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DFC2-0839-424A-A24A-90B883CD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B833-5779-41C9-8A8B-16D0B7B3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597F-5BEB-42D0-85D4-50EBFD4C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92E-6668-4412-8318-24C803DC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9ECF-8CB0-49AC-951C-B4BF061D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FD1E-A78C-4FB0-BCDD-8095FEE5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2050-1909-41B6-AAA0-38C1717B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3C1C-CB0A-474D-844F-0AA1D922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E5A9-BA3F-4632-8557-03BCCA03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34D-E256-4A1B-8E5C-CE8D352E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CEC-DDA9-40E0-913E-DAFE1BE3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677-A82C-4A02-BCAA-13523499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D41-40AD-4741-B1BE-7E4DA50D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7B7-7733-4AD9-8595-22463609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241-9540-45E5-9EEA-597FF77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CE8-A012-49F6-95BD-6490FC59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16AF-0C97-4105-ABC9-6FE5354565A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BA25-AC1D-498D-BB9D-5E2F5242C58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oyecto TIC en un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entro Educativ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50800" y="2841480"/>
            <a:ext cx="3540240" cy="31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D964-05BD-4E7A-B2C5-B7BAB416ECB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36600" y="173160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umentar el interés por aprend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vorecer el aprendizaje cooperativo y soci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stimular creatividad e imaginació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D4A-31B7-4613-BD8F-D5E72F7D83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ocument"/>
          <p:cNvSpPr/>
          <p:nvPr/>
        </p:nvSpPr>
        <p:spPr>
          <a:xfrm>
            <a:off x="1190520" y="1666800"/>
            <a:ext cx="4057920" cy="50198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6600" y="1731960"/>
            <a:ext cx="401184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nfatizar la vertiente comunicativa de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Potenciar la integración de alumnado con necesidades educativas especial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miliarizarse y concienciarse del nuevo modelo de formación: autónomo y a distanci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C78-889B-473C-9C7E-812E197A76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Unidades Didácticas que incorporen el uso de nuevas tecnologí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daptar o diseñar multimedias que favorezcan el aprendizaje construc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xperimentar modelos de enseñanza alternativos a la instrucción direc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programas de apoyo al alumnado con necesidades edu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7EF-7366-4575-A147-2CBDBADB0B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sarrollar modelos de evaluación sobre la utilización de los medios tecnológic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Participar en iniciativas de formación presencial y a distancia sobre el uso de las NNT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Reconocer el nuevo rol del profesor: diseñador y facilitador de entorn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spcAft>
                <a:spcPts val="15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8EF-977A-464B-B7F1-97A25E9CC3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06560" y="2200320"/>
            <a:ext cx="1674720" cy="1496880"/>
            <a:chOff x="1006560" y="2200320"/>
            <a:chExt cx="1674720" cy="14968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015920" y="220032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404720" y="2486160"/>
              <a:ext cx="69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06560" y="324648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Uso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54560" y="3246480"/>
            <a:ext cx="2266920" cy="1695240"/>
            <a:chOff x="3454560" y="3246480"/>
            <a:chExt cx="2266920" cy="1695240"/>
          </a:xfrm>
        </p:grpSpPr>
        <p:sp>
          <p:nvSpPr>
            <p:cNvPr id="136" name="computr3"/>
            <p:cNvSpPr/>
            <p:nvPr/>
          </p:nvSpPr>
          <p:spPr>
            <a:xfrm>
              <a:off x="3454560" y="3246480"/>
              <a:ext cx="2266920" cy="1695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3640" y="3362400"/>
              <a:ext cx="10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Verdana"/>
                </a:rPr>
                <a:t>Proyec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9680" y="3673440"/>
              <a:ext cx="6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47880" y="1600200"/>
            <a:ext cx="1674720" cy="1496880"/>
            <a:chOff x="2747880" y="1600200"/>
            <a:chExt cx="1674720" cy="14968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757240" y="16002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62960" y="1886040"/>
              <a:ext cx="666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V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26463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Valor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84720" y="1619280"/>
            <a:ext cx="1674720" cy="1496880"/>
            <a:chOff x="5184720" y="1619280"/>
            <a:chExt cx="1674720" cy="14968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194080" y="161928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25360" y="1905120"/>
              <a:ext cx="616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4720" y="266544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Alfabet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Digi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40360" y="2496960"/>
            <a:ext cx="1674720" cy="1496880"/>
            <a:chOff x="6840360" y="2496960"/>
            <a:chExt cx="1674720" cy="149688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6849720" y="2496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287480" y="2782800"/>
              <a:ext cx="60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0360" y="3543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ten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vers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0360" y="4370400"/>
            <a:ext cx="1674720" cy="1496880"/>
            <a:chOff x="6840360" y="4370400"/>
            <a:chExt cx="1674720" cy="14968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6849720" y="43704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12680" y="4656240"/>
              <a:ext cx="555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0360" y="54165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Escol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70520" y="5119560"/>
            <a:ext cx="1674720" cy="1496880"/>
            <a:chOff x="4970520" y="5119560"/>
            <a:chExt cx="1674720" cy="1496880"/>
          </a:xfrm>
        </p:grpSpPr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4979880" y="5119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414400" y="5405400"/>
              <a:ext cx="612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G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70520" y="6165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Gest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dmin. y Tu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89120" y="5281560"/>
            <a:ext cx="1674720" cy="1496880"/>
            <a:chOff x="2589120" y="5281560"/>
            <a:chExt cx="1674720" cy="1496880"/>
          </a:xfrm>
        </p:grpSpPr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2598480" y="5281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69720" y="5567400"/>
              <a:ext cx="540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F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89120" y="6327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Form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Profesor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38080" y="4071960"/>
            <a:ext cx="1674720" cy="1496880"/>
            <a:chOff x="838080" y="4071960"/>
            <a:chExt cx="1674720" cy="1496880"/>
          </a:xfrm>
        </p:grpSpPr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847440" y="4071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240920" y="4357800"/>
              <a:ext cx="69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118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8D5-80D9-4C6A-A45C-AE9BEE7CD419}" type="slidenum">
              <a:t>1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1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Tecl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 Windows: Programas y Ventan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Word: edición básica de un documento: título, imagen y tex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Internet: websites conocid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Mi Primera Encar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vío y Recepción de Email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2AD-5DFE-4223-9513-63F5BD9E9C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2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Teclad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ntorno Windows: Archivos y Dis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Word: edición de un documento: formato de imagen y text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Navegación por Internet:herramientas escolares y buscad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Herramientas escolares de Encart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mails con adju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scaneado de imágenes prop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D00-684B-4B6E-B51A-E3CF0A95F5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tras 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Escol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Administrativa y Tutor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Valoración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Diseño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D73-6324-4A1C-8FF6-8BC913A893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blioteca Esco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-&gt; Mediate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catálogo: Abies 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Consulta web del catálogo: Bonsai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Formación de usuari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oyecto interdisciplinar por hit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f7f7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0" y="5210280"/>
            <a:ext cx="2033640" cy="16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154-954D-4914-AFF4-43330A99CD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stión Administrativa y 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lantillas documentación oficial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scola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conómi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Noticias web para famili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tutorial: listas y evaluacione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F92-4AAF-4224-BC35-6BF45ECA37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Índ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ntex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ínea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z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a Web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rmación del Profesora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yec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erspectivas del futu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FA3-812D-4B84-9E27-A8A4A47EF6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loración de Mater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quip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Criterios de valoración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1) Profesor Marc Per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técnicos: interacción, fiabilidad, navegación, etc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estéticos: entorno, cal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de utilidad didáctica: estrategias, evaluación, continu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pedagógicos: refuerzos, motivación, buscado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laboración de una guía de explotación didáctic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Presentación del mater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Revisión del Plan Anual de Uso de Material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465-078A-420C-AA8B-4E3D751CC5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eño de Materia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2548080"/>
            <a:ext cx="7313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ecesidad del diseño: escasez de iniciativas editoria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s de publicación: Aula - Red local – Web del centro – Aula virtual - Otr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Herramientas: Word – FrontPage - PowerPoint – Autor NEA - Hot Potatoes – JClic – Flash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3800" y="530280"/>
            <a:ext cx="2039760" cy="20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930-38F4-401E-8305-4044B22ED4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orarios y espac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gram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 Coordinador 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A59-1641-4B72-9C23-9C4389CA4B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Horarios y espac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90840" y="1827360"/>
            <a:ext cx="70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quincenal. Cada grupo asiste con profesor especialista (Inglés-Música-Llíngua-Plástica) (20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 Alfabetización Digital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un profesor responsable de Ciclo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BE Biblioteca Escolar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tención a la Diversidad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(apoyos): resto horario lectivo disponibl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FP Formación profesorado.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Horario de dedicación exclusiva (2 horas semanales: individual y grupo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6440" y="4495680"/>
            <a:ext cx="1594080" cy="21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1F5-6C54-4989-976E-EEB1DED28A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Organigram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410080" y="2540160"/>
            <a:ext cx="3601440" cy="1402560"/>
            <a:chOff x="5410080" y="2540160"/>
            <a:chExt cx="3601440" cy="1402560"/>
          </a:xfrm>
        </p:grpSpPr>
        <p:sp>
          <p:nvSpPr>
            <p:cNvPr id="194" name=""/>
            <p:cNvSpPr/>
            <p:nvPr/>
          </p:nvSpPr>
          <p:spPr>
            <a:xfrm>
              <a:off x="5410080" y="2540160"/>
              <a:ext cx="1308240" cy="1226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2160" y="3422520"/>
              <a:ext cx="225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V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Profesores de Apoy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, Logopedia y 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10200" y="1724040"/>
            <a:ext cx="2193840" cy="1225440"/>
            <a:chOff x="6010200" y="1724040"/>
            <a:chExt cx="2193840" cy="1225440"/>
          </a:xfrm>
        </p:grpSpPr>
        <p:sp>
          <p:nvSpPr>
            <p:cNvPr id="197" name=""/>
            <p:cNvSpPr/>
            <p:nvPr/>
          </p:nvSpPr>
          <p:spPr>
            <a:xfrm>
              <a:off x="6461280" y="2016000"/>
              <a:ext cx="1168200" cy="9334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0200" y="172404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A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utores y Secreta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16640" y="2062080"/>
            <a:ext cx="1717200" cy="1704960"/>
            <a:chOff x="1016640" y="2062080"/>
            <a:chExt cx="1717200" cy="1704960"/>
          </a:xfrm>
        </p:grpSpPr>
        <p:sp>
          <p:nvSpPr>
            <p:cNvPr id="200" name=""/>
            <p:cNvSpPr/>
            <p:nvPr/>
          </p:nvSpPr>
          <p:spPr>
            <a:xfrm>
              <a:off x="1380960" y="2579760"/>
              <a:ext cx="1352880" cy="11872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6640" y="2062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E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sponsa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 la 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3000" y="3173400"/>
            <a:ext cx="2939760" cy="1347840"/>
            <a:chOff x="783000" y="3173400"/>
            <a:chExt cx="2939760" cy="1347840"/>
          </a:xfrm>
        </p:grpSpPr>
        <p:sp>
          <p:nvSpPr>
            <p:cNvPr id="203" name=""/>
            <p:cNvSpPr/>
            <p:nvPr/>
          </p:nvSpPr>
          <p:spPr>
            <a:xfrm>
              <a:off x="2185920" y="3173400"/>
              <a:ext cx="1536840" cy="1347840"/>
            </a:xfrm>
            <a:prstGeom prst="pi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3000" y="3848040"/>
              <a:ext cx="149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Grupos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57040" y="4297320"/>
            <a:ext cx="2229120" cy="2050200"/>
            <a:chOff x="1157040" y="4297320"/>
            <a:chExt cx="2229120" cy="2050200"/>
          </a:xfrm>
        </p:grpSpPr>
        <p:sp>
          <p:nvSpPr>
            <p:cNvPr id="206" name=""/>
            <p:cNvSpPr/>
            <p:nvPr/>
          </p:nvSpPr>
          <p:spPr>
            <a:xfrm>
              <a:off x="1228680" y="4297320"/>
              <a:ext cx="1893960" cy="169236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7040" y="60404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FP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odos los 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12480" y="2070000"/>
            <a:ext cx="2462040" cy="1758960"/>
            <a:chOff x="3012480" y="2070000"/>
            <a:chExt cx="2462040" cy="1758960"/>
          </a:xfrm>
        </p:grpSpPr>
        <p:sp>
          <p:nvSpPr>
            <p:cNvPr id="209" name=""/>
            <p:cNvSpPr/>
            <p:nvPr/>
          </p:nvSpPr>
          <p:spPr>
            <a:xfrm>
              <a:off x="3436920" y="2481120"/>
              <a:ext cx="1373040" cy="134784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2480" y="2070000"/>
              <a:ext cx="246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V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Coordinador Ciclo y u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 por especial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91120" y="3259080"/>
            <a:ext cx="4073760" cy="1347840"/>
            <a:chOff x="4191120" y="3259080"/>
            <a:chExt cx="4073760" cy="1347840"/>
          </a:xfrm>
        </p:grpSpPr>
        <p:sp>
          <p:nvSpPr>
            <p:cNvPr id="212" name=""/>
            <p:cNvSpPr/>
            <p:nvPr/>
          </p:nvSpPr>
          <p:spPr>
            <a:xfrm>
              <a:off x="4191120" y="3259080"/>
              <a:ext cx="1536480" cy="13478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7560" y="3968640"/>
              <a:ext cx="240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U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utores, Especialist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y Apoyos a Grup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05400" y="4297320"/>
            <a:ext cx="2553120" cy="1999440"/>
            <a:chOff x="4505400" y="4297320"/>
            <a:chExt cx="2553120" cy="1999440"/>
          </a:xfrm>
        </p:grpSpPr>
        <p:sp>
          <p:nvSpPr>
            <p:cNvPr id="215" name=""/>
            <p:cNvSpPr/>
            <p:nvPr/>
          </p:nvSpPr>
          <p:spPr>
            <a:xfrm>
              <a:off x="4505400" y="4297320"/>
              <a:ext cx="1666800" cy="15843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2640" y="5989680"/>
              <a:ext cx="23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Un profesor por Cic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F4E-4DFB-49AD-A030-9D504CF97B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l Coordinador TI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Sus funciones más destacadas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Apoyar al profesorado en la integración de las TICs en la docencia diaria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Organizar y gestionar los recursos asegurando su correcto funcionamient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laborar en la implantación de los servicios de la Intra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Dinamizar los proyectos del centro relacionados con NNT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Gestionar el presupuesto específic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ordinar la comunicación del centro con las instituciones en temas TIC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018040" y="2141640"/>
            <a:ext cx="3665520" cy="28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33D-D573-40BF-8CE5-91643914C4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Web del Cen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tu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702-5F68-4A54-A140-17E6D2A879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web del centro I: Situ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Recurso importante en el proyecto TIC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etende los mismos objetivos que el plan TI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be superar el enfoque inicial de “escaparate”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rtal de recursos de continua referencia del alumnado: de lo conocido a lo desconoci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AD0-C084-4C12-BA7C-1D8034D58C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 web del centro II: Princip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Usabil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entorno intuitivo, amigable y adaptado a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ctiv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participación de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Enfoque educativo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omentar un uso más racional de los medios tecnológi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comunicar los detalles del proyecto educativo al resto de la comunidad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Portal de recursos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integrar múltiples recursos para convertirlo en sitio de referencia permanent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ni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acilitador de experiencias didácticas de innov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F23-CA74-475D-93F1-A1E1C3DE26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mación del profesorado: Mod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00120" y="1827360"/>
            <a:ext cx="628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actor clave de la integración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minario de formación en centr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Bajo la dirección del coordinador y con el apoyo del Centr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esión quincenal de 2 hor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lterna formación impartida por el coordinador con trabajo individual, de pequeño y de gran grup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presencial: cursos del Centro de Profesor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a distancia: Consejería y CNI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680" y="3591000"/>
            <a:ext cx="2209680" cy="30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465-4858-406B-8901-293E8FD487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tuación actual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incipio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591-B973-4EC0-95EE-5731592E1A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valuación del proye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alumn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feso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ces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08A-BB83-4C4B-A66C-605A653740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alumn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cilita la creatividad y la imagin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vorece la comunicación del alumnado con su entorn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sibilita la integración social de alumnos con ne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tencia el uso de nuevos entornos de aprendiza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F76-F065-4B82-B2F0-FFDADFA63F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valuación del alumno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integración TIC supone construcción del conocimien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mejoran las habilidades de pensamiento crític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adquieren valores relacionados con el uso de las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estimula el interés por aprender en alumnos con ne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fomenta el trabajo cooperativ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ED3-3122-407F-81C1-29722DC47E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9880" y="1827000"/>
            <a:ext cx="694368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incorporado TICs como instrumentos cognitivos en el desarrollo de Unidades Didáctic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aprovechamiento de las TICs es el má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 participado activamente en la valoración, adaptación y diseño de recurs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experimentado modelos de enseñanza alternativos a la inst.direc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5CA-074A-439F-BD16-895B55E6BA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9880" y="1827360"/>
            <a:ext cx="69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ha puesto en práctica algún modelo de eval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la formación recibida es de utilidad en la docencia diari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existe sensibilidad hacia el cambio de rol del profesor que supone la integración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AAD-BFA6-42FD-BCB6-0A4960D7C7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19080" y="1827360"/>
            <a:ext cx="686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os recursos son adecuados y se utilizan de forma eficaz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organización de recursos es idóne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xiste compromiso de todos los participantes: alumnado, profesorado, familias, et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observa especial incidencia en la práctica docente y familia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trabajo del coordinador de TICs e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00160" y="5181480"/>
            <a:ext cx="1307880" cy="1227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89160" y="5573880"/>
            <a:ext cx="1054080" cy="988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554-77BC-465D-BFA6-09B81B8F28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4280" y="2189160"/>
            <a:ext cx="4559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prendizaje sobre/con la tecnologí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amas basados en la filosofía del refuerz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 éxito de una aplicación también depende del contexto de us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720" y="3922560"/>
            <a:ext cx="2818080" cy="272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56120" y="1482840"/>
            <a:ext cx="5778360" cy="3375000"/>
          </a:xfrm>
          <a:prstGeom prst="cloudCallout">
            <a:avLst>
              <a:gd name="adj1" fmla="val -40740"/>
              <a:gd name="adj2" fmla="val 69990"/>
            </a:avLst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EFF-631A-4B17-A345-F928EDD993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2027160"/>
            <a:ext cx="4888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tecnología no garantiza motiv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o del ordenador como un lib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as para reforzar conocimientos o bien para mejorar la productiv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flicto de competencias entre el ser humano y la máqui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217600">
            <a:off x="6362640" y="4673160"/>
            <a:ext cx="3149640" cy="304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960" y="1444680"/>
            <a:ext cx="6458040" cy="4079880"/>
          </a:xfrm>
          <a:prstGeom prst="cloudCallout">
            <a:avLst>
              <a:gd name="adj1" fmla="val 45106"/>
              <a:gd name="adj2" fmla="val 39532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D4B-235F-4D0A-8DAE-8DB2E597C1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0080" y="188424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mentar creación frente a reproduc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vorecer el aprendizaje interactivo, constructivo, autorregulado y tecnológ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orar el medio tecnológico por su valor como instrumento cognitiv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fatizar la construcción del conoci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ular el desarrollo de habilidades del pensa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5480" y="1590840"/>
            <a:ext cx="201420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C76-08A4-4141-868E-DCAF68EE61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960" y="1827360"/>
            <a:ext cx="55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sibilizarse con la educación en valores relacionada con el uso de las tecnologí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Enfatizar la vertiente cooperativa del aprendizaje: alumnos, profes, pad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Desarrollar habilidades instrumentale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lternar modelos de enseñanza y aprendizaje variado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Utilizar un recurso tecnológico sólo si merece la pen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2200" y="3514680"/>
            <a:ext cx="201456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4B0-4887-4399-92A8-2BDA190392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Alumnad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Profesorado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D56-6F43-4781-A89C-13C65ECE02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6600" y="170316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Construir aprendizaje del currículo usando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Mejorar habilidades del pensamiento adquiriendo estrategias inteligent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Desarrollar el sentido crít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dquirir una adecuada formación en valo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D96-C4EB-4D44-8BF6-7AB2B48455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41:53Z</dcterms:created>
  <dc:creator> fpp</dc:creator>
  <dc:description/>
  <dc:language>en-US</dc:language>
  <cp:lastModifiedBy>fpp</cp:lastModifiedBy>
  <dcterms:modified xsi:type="dcterms:W3CDTF">2007-05-05T22:15:31Z</dcterms:modified>
  <cp:revision>95</cp:revision>
  <dc:subject/>
  <dc:title>Proyecto de TICs en un  Centro de Educación Prim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Proyecto de TICs en un</vt:lpwstr>
  </property>
  <property fmtid="{D5CDD505-2E9C-101B-9397-08002B2CF9AE}" pid="3" name="LastUsedName">
    <vt:lpwstr>Proyecto de TICs en un</vt:lpwstr>
  </property>
</Properties>
</file>